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7A2-FBCC-4113-A267-57EC3963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355-7459-4B2D-88F9-E1B220E3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679-718A-44F2-B700-16E5F523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78B-D65D-4771-8EA1-78329C31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D58-C0C5-4A6B-99D9-4D9FF22B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86E-5E1B-43C9-B9F8-01B6DCE6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02A-6391-404E-9232-E7CE6D26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F6A-4569-46E5-B718-4FE49E9E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E04-695B-47E8-ACA7-3A30A773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288-D9B3-469E-90C1-3DE4E5C1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6E8-130D-4859-BDDC-AB209A7D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C27-7CCE-4559-925E-4470D977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6293-9984-4493-9B53-41179AC36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monta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bensguide.gpo.gov/3-5/state/montana.html" TargetMode="External"/><Relationship Id="rId4" Type="http://schemas.openxmlformats.org/officeDocument/2006/relationships/hyperlink" Target="http://unimaps.com/flags-us-state/montana-print2.html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ostcardsfrom.com/t1/980917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144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34320" y="5410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5253120"/>
            <a:ext cx="1447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52480" y="1600200"/>
            <a:ext cx="84582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Impact"/>
              </a:rPr>
              <a:t>Mont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5943600"/>
            <a:ext cx="33336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6019920"/>
            <a:ext cx="3657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nta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0-7-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0states.com/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609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920"/>
            <a:ext cx="647712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name: Mo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: He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: 9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ed the Union: November 18, 1889/ 4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o y Pl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ld and sil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: Treasur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: Bitter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: Western Meadow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: Mont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behind name: Montana is based on the Latin or Spanish word for mountain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739152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elry: Yogo Sapphire and Ag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4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 code: 4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Largest Cities in Montana - Billings, Missoula &amp; Great Fa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explored by Lewis and Clark in 1805 and 18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the State covers 147046 square m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20766600">
            <a:off x="380880" y="609480"/>
            <a:ext cx="4648320" cy="3098880"/>
          </a:xfrm>
          <a:prstGeom prst="rect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52" name="" descr="Montana: Map and State Flag"/>
          <p:cNvPicPr/>
          <p:nvPr/>
        </p:nvPicPr>
        <p:blipFill>
          <a:blip r:embed="rId2"/>
          <a:srcRect l="0" t="52641" r="-745" b="0"/>
          <a:stretch/>
        </p:blipFill>
        <p:spPr>
          <a:xfrm>
            <a:off x="5562720" y="3505320"/>
            <a:ext cx="335268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5715000"/>
            <a:ext cx="5181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Facts: Learn About Your State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Montan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/22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montan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57200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Maps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e flag of Mont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9/22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unimaps.com/flags-us-state/montana-print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Mincho"/>
              </a:rPr>
              <a:t>This is a picture of </a:t>
            </a:r>
            <a:r>
              <a:rPr b="1" lang="en-US" sz="2400" spc="-1" strike="noStrike">
                <a:solidFill>
                  <a:srgbClr val="009999"/>
                </a:solidFill>
                <a:latin typeface="MS Mincho"/>
              </a:rPr>
              <a:t>Montana’s flag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2819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gency FB"/>
              </a:rPr>
              <a:t>This is a picture of the outline of th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19112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5867280" y="2971800"/>
            <a:ext cx="609840" cy="533520"/>
          </a:xfrm>
          <a:custGeom>
            <a:avLst/>
            <a:gdLst>
              <a:gd name="textAreaLeft" fmla="*/ 203400 w 609840"/>
              <a:gd name="textAreaRight" fmla="*/ 522360 w 60984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80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312408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All images Copyright © 1997 - 2000 WriteLine. All Rights Reserved. General Thomas Meag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5029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Bradley Hand ITC"/>
              </a:rPr>
              <a:t>This is the state capitol of Montana</a:t>
            </a: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6674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3ec2"/>
                </a:solidFill>
                <a:latin typeface="MS Mincho"/>
              </a:rPr>
              <a:t>Postcards from America, </a:t>
            </a:r>
            <a:r>
              <a:rPr b="1" lang="en-US" sz="1800" spc="-1" strike="noStrike" u="sng">
                <a:solidFill>
                  <a:srgbClr val="b93ec2"/>
                </a:solidFill>
                <a:uFillTx/>
                <a:latin typeface="MS Mincho"/>
              </a:rPr>
              <a:t>Helena, MT,</a:t>
            </a:r>
            <a:r>
              <a:rPr b="1" lang="en-US" sz="1800" spc="-1" strike="noStrike">
                <a:solidFill>
                  <a:srgbClr val="b93ec2"/>
                </a:solidFill>
                <a:latin typeface="MS Mincho"/>
              </a:rPr>
              <a:t> 9/23/10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8091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5181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19:54Z</dcterms:created>
  <dc:creator>install</dc:creator>
  <dc:description/>
  <dc:language>en-US</dc:language>
  <cp:lastModifiedBy>install</cp:lastModifiedBy>
  <dcterms:modified xsi:type="dcterms:W3CDTF">2010-10-14T15:21:19Z</dcterms:modified>
  <cp:revision>13</cp:revision>
  <dc:subject/>
  <dc:title>Slide 1</dc:title>
</cp:coreProperties>
</file>